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0" y="0"/>
            <a:ext cx="67320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dt" idx="11"/>
          </p:nvPr>
        </p:nvSpPr>
        <p:spPr>
          <a:xfrm>
            <a:off x="38098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sldImg"/>
          </p:nvPr>
        </p:nvSpPr>
        <p:spPr>
          <a:xfrm>
            <a:off x="950400" y="762120"/>
            <a:ext cx="487692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body"/>
          </p:nvPr>
        </p:nvSpPr>
        <p:spPr>
          <a:xfrm>
            <a:off x="914400" y="4648320"/>
            <a:ext cx="4952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ftr" idx="12"/>
          </p:nvPr>
        </p:nvSpPr>
        <p:spPr>
          <a:xfrm>
            <a:off x="-360" y="9372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 type="sldNum" idx="13"/>
          </p:nvPr>
        </p:nvSpPr>
        <p:spPr>
          <a:xfrm>
            <a:off x="3809880" y="93726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26AB5-77DC-4677-8D66-F24EBA5B3799}" type="slidenum">
              <a:rPr b="0" lang="fi-FI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950760" y="7621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648320"/>
            <a:ext cx="49528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Slide Number Placeholder 3"/>
          <p:cNvSpPr/>
          <p:nvPr/>
        </p:nvSpPr>
        <p:spPr>
          <a:xfrm>
            <a:off x="3809880" y="93726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73211-DB6E-41F5-BD07-6DF1747FF5E7}" type="slidenum">
              <a:rPr b="0" lang="fi-FI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950760" y="7621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648320"/>
            <a:ext cx="49528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3809880" y="93726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DDC10-A635-4C85-86E0-AD462414B8AB}" type="slidenum">
              <a:rPr b="0" lang="fi-FI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950760" y="7621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14400" y="4648320"/>
            <a:ext cx="49528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3809880" y="93726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721A3-F5D2-49ED-831C-FBFC6E4EEB59}" type="slidenum">
              <a:rPr b="0" lang="fi-FI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950760" y="7621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4400" y="4648320"/>
            <a:ext cx="49528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3809880" y="93726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FC0CD-4B81-45E8-8912-C661E0A73B1A}" type="slidenum">
              <a:rPr b="0" lang="fi-FI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950760" y="7621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14400" y="4648320"/>
            <a:ext cx="49528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Slide Number Placeholder 3"/>
          <p:cNvSpPr/>
          <p:nvPr/>
        </p:nvSpPr>
        <p:spPr>
          <a:xfrm>
            <a:off x="3809880" y="93726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E4C98-0228-4BB2-ABF7-0357A3723F88}" type="slidenum">
              <a:rPr b="0" lang="fi-FI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950760" y="7621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648320"/>
            <a:ext cx="49528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Slide Number Placeholder 3"/>
          <p:cNvSpPr/>
          <p:nvPr/>
        </p:nvSpPr>
        <p:spPr>
          <a:xfrm>
            <a:off x="3809880" y="93726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633D6-441C-4FBD-975B-FA43BA18018C}" type="slidenum">
              <a:rPr b="0" lang="fi-FI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6248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47920" y="4087080"/>
            <a:ext cx="6248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3048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49760" y="2057040"/>
            <a:ext cx="3048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8CD08A-A59D-4D68-B7C4-327246F80F2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351640-78A0-4E9C-885E-BA530AD1DAC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1447920" y="609480"/>
            <a:ext cx="624816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4609F9-1EBB-464B-BF2E-50A96285B1A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49760" y="2057040"/>
            <a:ext cx="3048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447920" y="408708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04061D-F844-435F-96C5-5BCBC85837C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3048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4976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49760" y="408708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7F0146-935C-4A15-A65A-48EAAA5982D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4976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1447920" y="4087080"/>
            <a:ext cx="6248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238FFB-AB67-4CF5-996B-67EB19688C9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6248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1447920" y="4087080"/>
            <a:ext cx="6248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9DC0E7-9520-4E85-87FE-20C686CF226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4976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447920" y="408708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49760" y="408708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82C1C3-B397-4052-AC7B-80CFB20A838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560400" y="205704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673240" y="205704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1447920" y="408708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560400" y="408708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5673240" y="408708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1285E5-ED85-4F51-80F2-19D6A29A7B6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BAA40-E51F-478E-BA87-0A06AACB99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4976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47920" y="408708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49760" y="408708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1447920" y="2057040"/>
            <a:ext cx="6248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C95E9-BDD0-4BCD-84FC-25070FB34A84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6248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77720-784A-401F-A7B1-18B083EF690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3048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49760" y="2057040"/>
            <a:ext cx="3048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8754F-C524-4D74-B6D9-35486B021F0E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6DA8B-BFD9-4E3B-8A25-9C0AFB1EC7A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1447920" y="609480"/>
            <a:ext cx="624816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F8A18-1044-4B21-8889-1B7AC3FE3F0E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49760" y="2057040"/>
            <a:ext cx="3048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1447920" y="408708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31B3D-0D2C-4126-9C0C-B90E34F9F44A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3048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4976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49760" y="408708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8EDC5-D8F7-4689-A063-7215F71A04AF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4976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1447920" y="4087080"/>
            <a:ext cx="6248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FBC9F-4D9F-4A87-B7F9-14B154674A89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6248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1447920" y="4087080"/>
            <a:ext cx="6248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8C5F9-8415-4801-95A6-189151EB2CE2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4976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1447920" y="408708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49760" y="408708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3D84F-871B-44F2-88A5-9B7032F0C4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60400" y="205704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73240" y="205704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47920" y="408708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60400" y="408708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73240" y="408708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560400" y="205704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673240" y="205704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1447920" y="408708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560400" y="408708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5673240" y="408708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2E9E9-3331-45E2-A5C0-C6DB9A0BDCA8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B54AFF-16CC-424E-AE46-71A8784741E5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1447920" y="2057040"/>
            <a:ext cx="6248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AB5172-68F0-4ACB-A086-E61E9F35D5CB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6248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DB49B2-16B2-4702-85F2-F967B5A599EA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3048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49760" y="2057040"/>
            <a:ext cx="3048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E81246-2C1F-4978-916C-CD4F4709122B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144954-9279-46CD-91EC-FDFB3D898615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1447920" y="609480"/>
            <a:ext cx="624816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0778C4-E775-4CD6-BD74-0A0E3CF26995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49760" y="2057040"/>
            <a:ext cx="3048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447920" y="408708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A25061-B16E-4372-8DE1-5E7CB174F79C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3048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4976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49760" y="408708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7E6A94-F8B4-4C77-B4FC-BBD0687E5354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4976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1447920" y="4087080"/>
            <a:ext cx="6248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F59EE4-1B92-4AFF-A939-E6BDF72168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E1010-7C8E-418E-AB30-6A188998A730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6248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1447920" y="4087080"/>
            <a:ext cx="6248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158DA9-5F69-47BE-AA2B-9EB00BBEEAEA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4976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1447920" y="408708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49760" y="408708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C04E15-1A46-4780-A31C-C53405D697BA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560400" y="205704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673240" y="205704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1447920" y="408708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560400" y="408708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673240" y="408708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2519D7-4273-4E76-9158-BDB6981D7C9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2057040"/>
            <a:ext cx="6248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CA528-4561-4833-B79F-1C0506713CC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6248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D85C2-BE7E-4582-8665-62CDF475246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3048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9760" y="2057040"/>
            <a:ext cx="3048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4B166-1494-423F-BB1D-DF4402AE633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7F4F8-DEDE-4388-94C0-62B982CF90A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447920" y="609480"/>
            <a:ext cx="624816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6014E-83E2-42D1-B971-1772C5DB060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9760" y="2057040"/>
            <a:ext cx="3048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47920" y="408708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F13E9-4163-4596-9894-FD961E0E00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47920" y="2057040"/>
            <a:ext cx="6248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3048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976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49760" y="408708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BA863-8056-42D4-AA5F-488F99B2A2C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976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447920" y="4087080"/>
            <a:ext cx="6248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19106-F1DF-4D53-8D68-F1E27733137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6248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447920" y="4087080"/>
            <a:ext cx="6248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46C80-D309-4993-92BC-0D49B9FE2E4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976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47920" y="408708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49760" y="408708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B6138-9627-4489-AF3C-AE52D1A47A2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60400" y="205704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73240" y="205704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447920" y="408708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60400" y="408708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73240" y="408708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05979-3033-43F1-A303-EFB924C4D5D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34E9C-473A-47DE-8BB9-46121DB81C9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447920" y="2057040"/>
            <a:ext cx="6248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A639B-255A-4DE4-8320-56854B6E904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6248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1D796-55C6-4EE8-B87D-6A83AFC978A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3048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9760" y="2057040"/>
            <a:ext cx="3048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857FF-0952-403E-BB42-09A407E875E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9743A-D170-4241-B321-4C75867589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6248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447920" y="609480"/>
            <a:ext cx="624816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1DA9E-FD03-47C9-95D6-191D10FADD5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9760" y="2057040"/>
            <a:ext cx="3048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447920" y="408708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1D987-4424-4E8D-ABAC-FB297E7F3DA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3048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976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49760" y="408708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C48AA-49C8-4ADD-9EFA-FEFB6F3A86A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976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447920" y="4087080"/>
            <a:ext cx="6248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AB20B-D7B6-4F30-AFC5-D1FCAE7618B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6248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447920" y="4087080"/>
            <a:ext cx="6248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8B40D-D66B-4699-882C-746221541BB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976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447920" y="408708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49760" y="408708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EB61A-2AA9-4CCF-8B73-CB701251947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560400" y="205704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673240" y="205704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447920" y="408708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560400" y="408708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673240" y="408708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D5021-90F8-4689-8A02-74E0CB53F2D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DA6A-0641-43FE-9B88-74BB0078F0D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447920" y="2057040"/>
            <a:ext cx="6248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863B-8757-43A2-9555-AB398323461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6248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514F-E8B1-4477-B38E-4090AB018C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3048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49760" y="2057040"/>
            <a:ext cx="3048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3048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9760" y="2057040"/>
            <a:ext cx="3048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6B95-EC8F-4F34-B21E-CFFA89F6AF2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BD3B-0EFC-4911-8F3B-123D394142B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1447920" y="609480"/>
            <a:ext cx="624816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B782-3272-4818-B223-829A21360FC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49760" y="2057040"/>
            <a:ext cx="3048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447920" y="408708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A0D7-689C-4D95-A317-28BDA850955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3048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4976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49760" y="408708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C4F0-9E81-4401-91CA-68D3FBAAB64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4976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447920" y="4087080"/>
            <a:ext cx="6248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99A0-6B01-47BA-A88E-BBBE3EA300D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6248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1447920" y="4087080"/>
            <a:ext cx="6248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FAA7-2349-4660-BAC8-133DE0B1A37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4976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447920" y="408708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49760" y="408708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C428-927A-4849-B7EE-EB1133B7907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560400" y="205704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673240" y="205704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1447920" y="408708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560400" y="408708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673240" y="408708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A243-07A9-450C-9389-9DDE3AD3977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564F05-96CA-49DD-BA24-5A1C835921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447920" y="2057040"/>
            <a:ext cx="6248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C26952-5B46-4311-8438-3A960A27C16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6248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752A55-B04F-4005-8E96-1C50F85C56B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3048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49760" y="2057040"/>
            <a:ext cx="3048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A77A42-04B1-4BAB-8D54-DB95C7E1BF1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E6E89C-B35B-4895-A240-C9EAA6895A5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1447920" y="609480"/>
            <a:ext cx="624816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3D26F8-92F4-48D9-B53E-90E4B049FA0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49760" y="2057040"/>
            <a:ext cx="3048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447920" y="408708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2F60C3-E955-40C8-9782-E3030FE5501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3048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4976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49760" y="408708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2D6B5C-1755-4945-BE37-E29932B52CE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4976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447920" y="4087080"/>
            <a:ext cx="6248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567822-0B29-4FFA-BB24-928E16D1FC1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6248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1447920" y="4087080"/>
            <a:ext cx="6248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F5111D-FC5E-4D74-B78D-611239AD702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4976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447920" y="408708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49760" y="408708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7D2A1B-7C53-465E-A843-9FF168978F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47920" y="609480"/>
            <a:ext cx="624816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560400" y="205704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673240" y="205704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1447920" y="408708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560400" y="408708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5673240" y="408708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43F286-844B-43D0-AFB9-75394536DD2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4A8698-DB24-4AFD-A6A5-5783BBFE45D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447920" y="2057040"/>
            <a:ext cx="6248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16DD48-F27A-4779-9B84-CC0806CFE54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6248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3AECC9-A382-44BE-B81C-72D8B6BBD27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3048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49760" y="2057040"/>
            <a:ext cx="3048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09B81D-ECCA-4B79-A292-D26E8218A66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2A2537-3D8A-4554-BCAA-E50F261420A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447920" y="609480"/>
            <a:ext cx="624816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7D8148-54E3-461D-9CFB-964BC78FAD5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49760" y="2057040"/>
            <a:ext cx="3048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447920" y="408708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816977-0ABA-4766-A2F4-7117D389B9C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3048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4976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49760" y="408708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0DCE7B-024F-4261-8B2B-B490D4CB6E0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4976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447920" y="4087080"/>
            <a:ext cx="6248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079E3B-B117-4172-8309-C0EE626C94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9760" y="2057040"/>
            <a:ext cx="3048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47920" y="408708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6248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1447920" y="4087080"/>
            <a:ext cx="6248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ACFC11-BDCF-473F-A6C0-FD7591B9689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4976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447920" y="408708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49760" y="408708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AC74D1-49A5-4B16-B3CD-E0C9BFE131B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60400" y="205704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673240" y="205704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1447920" y="408708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60400" y="408708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5673240" y="408708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DEDCBD-9934-4440-B928-91D1D647115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6396C-A121-41CB-B34D-378BCBCC902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1447920" y="2057040"/>
            <a:ext cx="6248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94662-E93B-4D8F-AAD1-C73153ADF41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6248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07DE3-DBC6-4856-8EA1-2DFEF79122B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3048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49760" y="2057040"/>
            <a:ext cx="3048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FB3FF-DF1E-4DF5-A0A9-57606D49202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7CA0E-4889-49C4-A636-9BACCEFB287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1447920" y="609480"/>
            <a:ext cx="624816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351D7-3F69-4FAB-8293-BF8DD87DD45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49760" y="2057040"/>
            <a:ext cx="3048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447920" y="408708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89502-9A26-48E2-9FA7-74CBBF4F27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3048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976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49760" y="408708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3048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4976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49760" y="408708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40D1D-8454-4552-A2AA-964BA3231E0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4976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447920" y="4087080"/>
            <a:ext cx="6248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D04EF-2C7A-4958-A991-CAA69B3781C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6248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1447920" y="4087080"/>
            <a:ext cx="6248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44553-7EB0-44A4-9D9A-CE8F741689C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4976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447920" y="408708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49760" y="408708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E50C2-26D1-4E4E-B72E-3032D900B92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560400" y="205704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673240" y="205704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1447920" y="408708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560400" y="408708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5673240" y="408708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D95AD-D461-4B4F-9147-89CA585DBAD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B23CF3-D575-4069-AC69-BE64637CF74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1447920" y="2057040"/>
            <a:ext cx="6248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5CF0A8-17A6-4AC0-B761-73D0EDCBD7AE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6248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1A2539-2D8E-461F-9E2C-5DB4DEC3BAF8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3048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49760" y="2057040"/>
            <a:ext cx="3048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C4F7DE-7829-487F-A8D6-AC3B8EDE63B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508C37-71D5-4A2F-B6A5-5A8A6FDB00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976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47920" y="4087080"/>
            <a:ext cx="6248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1447920" y="609480"/>
            <a:ext cx="624816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C4118F-BBE8-4DE5-85EF-625B66C1921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49760" y="2057040"/>
            <a:ext cx="3048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1447920" y="408708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FF642D-382A-40AA-86C6-180385EBCC3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3048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4976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49760" y="408708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FF9FC2-1E73-4A34-8821-F06519189F4B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4976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447920" y="4087080"/>
            <a:ext cx="6248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E41007-0C07-49BC-9F30-135E0A445D96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6248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1447920" y="4087080"/>
            <a:ext cx="6248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DA5876-8B7E-4C63-9680-8BD996707DA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49760" y="205704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447920" y="408708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49760" y="4087080"/>
            <a:ext cx="3048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88A50B-F98C-4A29-8A49-A8B5E46EBEC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560400" y="205704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673240" y="205704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1447920" y="408708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560400" y="408708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673240" y="4087080"/>
            <a:ext cx="201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FD47BC-E8B5-4AF5-9B16-4DB5B44E12D4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85413B-6EC8-436C-BD29-12D9A5DF7EA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447920" y="2057040"/>
            <a:ext cx="6248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FE491C-1528-4AD9-A240-69FC1152870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6248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FBB22B-95A5-4A25-AB42-28964190FD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hyperlink" Target="http://WWW.LET.FI/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hyperlink" Target="http://WWW.LET.FI/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hyperlink" Target="http://WWW.LET.FI/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hyperlink" Target="http://WWW.LET.FI/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hyperlink" Target="http://WWW.LET.FI/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hyperlink" Target="http://WWW.LET.FI/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hyperlink" Target="http://WWW.LET.FI/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hyperlink" Target="http://WWW.LET.FI/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920" y="2057040"/>
            <a:ext cx="6248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" name="Picture 13" descr="Kulmakuvio"/>
          <p:cNvPicPr/>
          <p:nvPr/>
        </p:nvPicPr>
        <p:blipFill>
          <a:blip r:embed="rId2"/>
          <a:stretch/>
        </p:blipFill>
        <p:spPr>
          <a:xfrm>
            <a:off x="0" y="0"/>
            <a:ext cx="912960" cy="16002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4" descr="Oy_logo__vaaka_ENG"/>
          <p:cNvPicPr/>
          <p:nvPr/>
        </p:nvPicPr>
        <p:blipFill>
          <a:blip r:embed="rId3"/>
          <a:stretch/>
        </p:blipFill>
        <p:spPr>
          <a:xfrm>
            <a:off x="6006960" y="6080040"/>
            <a:ext cx="2895840" cy="5112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10"/>
          <p:cNvSpPr/>
          <p:nvPr/>
        </p:nvSpPr>
        <p:spPr>
          <a:xfrm>
            <a:off x="923760" y="6184800"/>
            <a:ext cx="4778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 u="sng">
                <a:solidFill>
                  <a:srgbClr val="1068a2"/>
                </a:solidFill>
                <a:uFillTx/>
                <a:latin typeface="Gill Sans"/>
                <a:hlinkClick r:id="rId4"/>
              </a:rPr>
              <a:t>LET.OULU.FI</a:t>
            </a:r>
            <a:r>
              <a:rPr b="0" lang="fi-FI" sz="1200" spc="-1" strike="noStrike">
                <a:solidFill>
                  <a:srgbClr val="777777"/>
                </a:solidFill>
                <a:latin typeface="Gill Sans"/>
              </a:rPr>
              <a:t>	</a:t>
            </a:r>
            <a:r>
              <a:rPr b="0" lang="fi-FI" sz="1200" spc="-1" strike="noStrike">
                <a:solidFill>
                  <a:srgbClr val="777777"/>
                </a:solidFill>
                <a:latin typeface="Gill Sans"/>
              </a:rPr>
              <a:t> MATTI MEIKÄLÄINEN    </a:t>
            </a:r>
            <a:fld id="{46485353-6C9E-413C-92FA-A7367CFD898D}" type="datetime">
              <a:rPr b="0" lang="fi-FI" sz="1200" spc="-1" strike="noStrike">
                <a:solidFill>
                  <a:srgbClr val="777777"/>
                </a:solidFill>
                <a:latin typeface="Gill Sans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" name="Picture 8" descr="let_logo.jpg"/>
          <p:cNvPicPr/>
          <p:nvPr/>
        </p:nvPicPr>
        <p:blipFill>
          <a:blip r:embed="rId5"/>
          <a:stretch/>
        </p:blipFill>
        <p:spPr>
          <a:xfrm>
            <a:off x="177840" y="6121440"/>
            <a:ext cx="711000" cy="596880"/>
          </a:xfrm>
          <a:prstGeom prst="rect">
            <a:avLst/>
          </a:prstGeom>
          <a:ln w="0">
            <a:noFill/>
          </a:ln>
        </p:spPr>
      </p:pic>
      <p:sp>
        <p:nvSpPr>
          <p:cNvPr id="6" name="Rectangle 8"/>
          <p:cNvSpPr/>
          <p:nvPr/>
        </p:nvSpPr>
        <p:spPr>
          <a:xfrm>
            <a:off x="927000" y="6388200"/>
            <a:ext cx="28450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r" pos="1790640"/>
                <a:tab algn="r" pos="1886040"/>
                <a:tab algn="r" pos="2867040"/>
                <a:tab algn="r" pos="3409920"/>
                <a:tab algn="r" pos="4486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Gill Sans"/>
              </a:rPr>
              <a:t>Learning and Educational Technology Research Unit</a:t>
            </a:r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r" pos="1790640"/>
                <a:tab algn="r" pos="1886040"/>
                <a:tab algn="r" pos="2867040"/>
                <a:tab algn="r" pos="3409920"/>
                <a:tab algn="r" pos="4486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13" descr="Kulmakuvio"/>
          <p:cNvPicPr/>
          <p:nvPr/>
        </p:nvPicPr>
        <p:blipFill>
          <a:blip r:embed="rId2"/>
          <a:stretch/>
        </p:blipFill>
        <p:spPr>
          <a:xfrm>
            <a:off x="0" y="0"/>
            <a:ext cx="912960" cy="16002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14" descr="Oy_logo__vaaka_ENG"/>
          <p:cNvPicPr/>
          <p:nvPr/>
        </p:nvPicPr>
        <p:blipFill>
          <a:blip r:embed="rId3"/>
          <a:stretch/>
        </p:blipFill>
        <p:spPr>
          <a:xfrm>
            <a:off x="6006960" y="6080040"/>
            <a:ext cx="2895840" cy="511200"/>
          </a:xfrm>
          <a:prstGeom prst="rect">
            <a:avLst/>
          </a:prstGeom>
          <a:ln w="0">
            <a:noFill/>
          </a:ln>
        </p:spPr>
      </p:pic>
      <p:sp>
        <p:nvSpPr>
          <p:cNvPr id="397" name="Rectangle 10"/>
          <p:cNvSpPr/>
          <p:nvPr/>
        </p:nvSpPr>
        <p:spPr>
          <a:xfrm>
            <a:off x="923760" y="6184800"/>
            <a:ext cx="4778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777777"/>
                </a:solidFill>
                <a:latin typeface="Gill Sans"/>
              </a:rPr>
              <a:t>LET.OULU.FI</a:t>
            </a:r>
            <a:r>
              <a:rPr b="0" lang="fi-FI" sz="1200" spc="-1" strike="noStrike">
                <a:solidFill>
                  <a:srgbClr val="777777"/>
                </a:solidFill>
                <a:latin typeface="Gill Sans"/>
              </a:rPr>
              <a:t>	</a:t>
            </a:r>
            <a:r>
              <a:rPr b="0" lang="fi-FI" sz="1200" spc="-1" strike="noStrike">
                <a:solidFill>
                  <a:srgbClr val="777777"/>
                </a:solidFill>
                <a:latin typeface="Gill Sans"/>
              </a:rPr>
              <a:t> MATTI MEIKÄLÄINEN    </a:t>
            </a:r>
            <a:fld id="{0E4D91FF-B860-4927-AEC2-9E70312B59A1}" type="datetime">
              <a:rPr b="0" lang="fi-FI" sz="1200" spc="-1" strike="noStrike">
                <a:solidFill>
                  <a:srgbClr val="777777"/>
                </a:solidFill>
                <a:latin typeface="Gill Sans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98" name="Picture 8" descr="let_logo.jpg"/>
          <p:cNvPicPr/>
          <p:nvPr/>
        </p:nvPicPr>
        <p:blipFill>
          <a:blip r:embed="rId4"/>
          <a:stretch/>
        </p:blipFill>
        <p:spPr>
          <a:xfrm>
            <a:off x="177840" y="6121440"/>
            <a:ext cx="711000" cy="59688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8"/>
          <p:cNvSpPr/>
          <p:nvPr/>
        </p:nvSpPr>
        <p:spPr>
          <a:xfrm>
            <a:off x="927000" y="6388200"/>
            <a:ext cx="28450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r" pos="1790640"/>
                <a:tab algn="r" pos="1886040"/>
                <a:tab algn="r" pos="2867040"/>
                <a:tab algn="r" pos="3409920"/>
                <a:tab algn="r" pos="4486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Gill Sans"/>
              </a:rPr>
              <a:t>Learning and Educational Technology Research Unit</a:t>
            </a:r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r" pos="1790640"/>
                <a:tab algn="r" pos="1886040"/>
                <a:tab algn="r" pos="2867040"/>
                <a:tab algn="r" pos="3409920"/>
                <a:tab algn="r" pos="4486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1447920" y="2057040"/>
            <a:ext cx="6248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9"/>
          </p:nvPr>
        </p:nvSpPr>
        <p:spPr>
          <a:xfrm>
            <a:off x="4038120" y="1519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B36EA-B652-48E1-8EEE-5A20185429D3}" type="slidenum">
              <a:rPr b="0" lang="fi-FI" sz="10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13" descr="Kulmakuvio"/>
          <p:cNvPicPr/>
          <p:nvPr/>
        </p:nvPicPr>
        <p:blipFill>
          <a:blip r:embed="rId2"/>
          <a:stretch/>
        </p:blipFill>
        <p:spPr>
          <a:xfrm>
            <a:off x="0" y="0"/>
            <a:ext cx="912960" cy="160020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14" descr="Oy_logo__vaaka_ENG"/>
          <p:cNvPicPr/>
          <p:nvPr/>
        </p:nvPicPr>
        <p:blipFill>
          <a:blip r:embed="rId3"/>
          <a:stretch/>
        </p:blipFill>
        <p:spPr>
          <a:xfrm>
            <a:off x="6006960" y="6080040"/>
            <a:ext cx="2895840" cy="511200"/>
          </a:xfrm>
          <a:prstGeom prst="rect">
            <a:avLst/>
          </a:prstGeom>
          <a:ln w="0">
            <a:noFill/>
          </a:ln>
        </p:spPr>
      </p:pic>
      <p:sp>
        <p:nvSpPr>
          <p:cNvPr id="441" name="Rectangle 10"/>
          <p:cNvSpPr/>
          <p:nvPr/>
        </p:nvSpPr>
        <p:spPr>
          <a:xfrm>
            <a:off x="923760" y="6184800"/>
            <a:ext cx="4778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777777"/>
                </a:solidFill>
                <a:latin typeface="Gill Sans"/>
              </a:rPr>
              <a:t>LET.OULU.FI</a:t>
            </a:r>
            <a:r>
              <a:rPr b="0" lang="fi-FI" sz="1200" spc="-1" strike="noStrike">
                <a:solidFill>
                  <a:srgbClr val="777777"/>
                </a:solidFill>
                <a:latin typeface="Gill Sans"/>
              </a:rPr>
              <a:t>	</a:t>
            </a:r>
            <a:r>
              <a:rPr b="0" lang="fi-FI" sz="1200" spc="-1" strike="noStrike">
                <a:solidFill>
                  <a:srgbClr val="777777"/>
                </a:solidFill>
                <a:latin typeface="Gill Sans"/>
              </a:rPr>
              <a:t> MATTI MEIKÄLÄINEN    </a:t>
            </a:r>
            <a:fld id="{A2D909AE-7641-4A15-AAA8-C480597812EF}" type="datetime">
              <a:rPr b="0" lang="fi-FI" sz="1200" spc="-1" strike="noStrike">
                <a:solidFill>
                  <a:srgbClr val="777777"/>
                </a:solidFill>
                <a:latin typeface="Gill Sans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42" name="Picture 8" descr="let_logo.jpg"/>
          <p:cNvPicPr/>
          <p:nvPr/>
        </p:nvPicPr>
        <p:blipFill>
          <a:blip r:embed="rId4"/>
          <a:stretch/>
        </p:blipFill>
        <p:spPr>
          <a:xfrm>
            <a:off x="177840" y="6121440"/>
            <a:ext cx="711000" cy="596880"/>
          </a:xfrm>
          <a:prstGeom prst="rect">
            <a:avLst/>
          </a:prstGeom>
          <a:ln w="0">
            <a:noFill/>
          </a:ln>
        </p:spPr>
      </p:pic>
      <p:sp>
        <p:nvSpPr>
          <p:cNvPr id="443" name="Rectangle 8"/>
          <p:cNvSpPr/>
          <p:nvPr/>
        </p:nvSpPr>
        <p:spPr>
          <a:xfrm>
            <a:off x="927000" y="6388200"/>
            <a:ext cx="28450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r" pos="1790640"/>
                <a:tab algn="r" pos="1886040"/>
                <a:tab algn="r" pos="2867040"/>
                <a:tab algn="r" pos="3409920"/>
                <a:tab algn="r" pos="4486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Gill Sans"/>
              </a:rPr>
              <a:t>Learning and Educational Technology Research Unit</a:t>
            </a:r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r" pos="1790640"/>
                <a:tab algn="r" pos="1886040"/>
                <a:tab algn="r" pos="2867040"/>
                <a:tab algn="r" pos="3409920"/>
                <a:tab algn="r" pos="4486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1447920" y="2057040"/>
            <a:ext cx="6248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10"/>
          </p:nvPr>
        </p:nvSpPr>
        <p:spPr>
          <a:xfrm>
            <a:off x="4038120" y="1519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2EBB6-614B-4B34-A7FC-6E6C2D5DAED6}" type="slidenum">
              <a:rPr b="0" lang="fi-FI" sz="10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3" descr="Kulmakuvio"/>
          <p:cNvPicPr/>
          <p:nvPr/>
        </p:nvPicPr>
        <p:blipFill>
          <a:blip r:embed="rId2"/>
          <a:stretch/>
        </p:blipFill>
        <p:spPr>
          <a:xfrm>
            <a:off x="0" y="0"/>
            <a:ext cx="912960" cy="1600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4" descr="Oy_logo__vaaka_ENG"/>
          <p:cNvPicPr/>
          <p:nvPr/>
        </p:nvPicPr>
        <p:blipFill>
          <a:blip r:embed="rId3"/>
          <a:stretch/>
        </p:blipFill>
        <p:spPr>
          <a:xfrm>
            <a:off x="6006960" y="6080040"/>
            <a:ext cx="2895840" cy="5112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0"/>
          <p:cNvSpPr/>
          <p:nvPr/>
        </p:nvSpPr>
        <p:spPr>
          <a:xfrm>
            <a:off x="923760" y="6184800"/>
            <a:ext cx="4778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 u="sng">
                <a:solidFill>
                  <a:srgbClr val="1068a2"/>
                </a:solidFill>
                <a:uFillTx/>
                <a:latin typeface="Gill Sans"/>
                <a:hlinkClick r:id="rId4"/>
              </a:rPr>
              <a:t>LET.OULU.FI</a:t>
            </a:r>
            <a:r>
              <a:rPr b="0" lang="fi-FI" sz="1200" spc="-1" strike="noStrike">
                <a:solidFill>
                  <a:srgbClr val="777777"/>
                </a:solidFill>
                <a:latin typeface="Gill Sans"/>
              </a:rPr>
              <a:t>	</a:t>
            </a:r>
            <a:r>
              <a:rPr b="0" lang="fi-FI" sz="1200" spc="-1" strike="noStrike">
                <a:solidFill>
                  <a:srgbClr val="777777"/>
                </a:solidFill>
                <a:latin typeface="Gill Sans"/>
              </a:rPr>
              <a:t> MATTI MEIKÄLÄINEN    </a:t>
            </a:r>
            <a:fld id="{4FAE755D-7720-4069-8EE2-62B7D4BDBED4}" type="datetime">
              <a:rPr b="0" lang="fi-FI" sz="1200" spc="-1" strike="noStrike">
                <a:solidFill>
                  <a:srgbClr val="777777"/>
                </a:solidFill>
                <a:latin typeface="Gill Sans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6" name="Picture 8" descr="let_logo.jpg"/>
          <p:cNvPicPr/>
          <p:nvPr/>
        </p:nvPicPr>
        <p:blipFill>
          <a:blip r:embed="rId5"/>
          <a:stretch/>
        </p:blipFill>
        <p:spPr>
          <a:xfrm>
            <a:off x="177840" y="6121440"/>
            <a:ext cx="711000" cy="5968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8"/>
          <p:cNvSpPr/>
          <p:nvPr/>
        </p:nvSpPr>
        <p:spPr>
          <a:xfrm>
            <a:off x="927000" y="6388200"/>
            <a:ext cx="28450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r" pos="1790640"/>
                <a:tab algn="r" pos="1886040"/>
                <a:tab algn="r" pos="2867040"/>
                <a:tab algn="r" pos="3409920"/>
                <a:tab algn="r" pos="4486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Gill Sans"/>
              </a:rPr>
              <a:t>Learning and Educational Technology Research Unit</a:t>
            </a:r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r" pos="1790640"/>
                <a:tab algn="r" pos="1886040"/>
                <a:tab algn="r" pos="2867040"/>
                <a:tab algn="r" pos="3409920"/>
                <a:tab algn="r" pos="4486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447920" y="2057040"/>
            <a:ext cx="6248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1"/>
          </p:nvPr>
        </p:nvSpPr>
        <p:spPr>
          <a:xfrm>
            <a:off x="4038120" y="1519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B3A83-8706-4B95-B0D2-EDA0615E1F7D}" type="slidenum">
              <a:rPr b="0" lang="fi-FI" sz="10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3" descr="Kulmakuvio"/>
          <p:cNvPicPr/>
          <p:nvPr/>
        </p:nvPicPr>
        <p:blipFill>
          <a:blip r:embed="rId2"/>
          <a:stretch/>
        </p:blipFill>
        <p:spPr>
          <a:xfrm>
            <a:off x="0" y="0"/>
            <a:ext cx="912960" cy="1600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4" descr="Oy_logo__vaaka_ENG"/>
          <p:cNvPicPr/>
          <p:nvPr/>
        </p:nvPicPr>
        <p:blipFill>
          <a:blip r:embed="rId3"/>
          <a:stretch/>
        </p:blipFill>
        <p:spPr>
          <a:xfrm>
            <a:off x="6006960" y="6080040"/>
            <a:ext cx="2895840" cy="5112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0"/>
          <p:cNvSpPr/>
          <p:nvPr/>
        </p:nvSpPr>
        <p:spPr>
          <a:xfrm>
            <a:off x="923760" y="6184800"/>
            <a:ext cx="4778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 u="sng">
                <a:solidFill>
                  <a:srgbClr val="1068a2"/>
                </a:solidFill>
                <a:uFillTx/>
                <a:latin typeface="Gill Sans"/>
                <a:hlinkClick r:id="rId4"/>
              </a:rPr>
              <a:t>LET.OULU.FI</a:t>
            </a:r>
            <a:r>
              <a:rPr b="0" lang="fi-FI" sz="1200" spc="-1" strike="noStrike">
                <a:solidFill>
                  <a:srgbClr val="777777"/>
                </a:solidFill>
                <a:latin typeface="Gill Sans"/>
              </a:rPr>
              <a:t>	</a:t>
            </a:r>
            <a:r>
              <a:rPr b="0" lang="fi-FI" sz="1200" spc="-1" strike="noStrike">
                <a:solidFill>
                  <a:srgbClr val="777777"/>
                </a:solidFill>
                <a:latin typeface="Gill Sans"/>
              </a:rPr>
              <a:t> MATTI MEIKÄLÄINEN    </a:t>
            </a:r>
            <a:fld id="{B70C6D41-2891-4C80-9B61-8176DB7C63CB}" type="datetime">
              <a:rPr b="0" lang="fi-FI" sz="1200" spc="-1" strike="noStrike">
                <a:solidFill>
                  <a:srgbClr val="777777"/>
                </a:solidFill>
                <a:latin typeface="Gill Sans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0" name="Picture 8" descr="let_logo.jpg"/>
          <p:cNvPicPr/>
          <p:nvPr/>
        </p:nvPicPr>
        <p:blipFill>
          <a:blip r:embed="rId5"/>
          <a:stretch/>
        </p:blipFill>
        <p:spPr>
          <a:xfrm>
            <a:off x="177840" y="6121440"/>
            <a:ext cx="711000" cy="5968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8"/>
          <p:cNvSpPr/>
          <p:nvPr/>
        </p:nvSpPr>
        <p:spPr>
          <a:xfrm>
            <a:off x="927000" y="6388200"/>
            <a:ext cx="28450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r" pos="1790640"/>
                <a:tab algn="r" pos="1886040"/>
                <a:tab algn="r" pos="2867040"/>
                <a:tab algn="r" pos="3409920"/>
                <a:tab algn="r" pos="4486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Gill Sans"/>
              </a:rPr>
              <a:t>Learning and Educational Technology Research Unit</a:t>
            </a:r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r" pos="1790640"/>
                <a:tab algn="r" pos="1886040"/>
                <a:tab algn="r" pos="2867040"/>
                <a:tab algn="r" pos="3409920"/>
                <a:tab algn="r" pos="4486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1447920" y="2057040"/>
            <a:ext cx="6248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Num" idx="2"/>
          </p:nvPr>
        </p:nvSpPr>
        <p:spPr>
          <a:xfrm>
            <a:off x="4038120" y="1519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C6A89-7E95-47CC-9132-1D536C2C369D}" type="slidenum">
              <a:rPr b="0" lang="fi-FI" sz="10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3" descr="Kulmakuvio"/>
          <p:cNvPicPr/>
          <p:nvPr/>
        </p:nvPicPr>
        <p:blipFill>
          <a:blip r:embed="rId2"/>
          <a:stretch/>
        </p:blipFill>
        <p:spPr>
          <a:xfrm>
            <a:off x="0" y="0"/>
            <a:ext cx="912960" cy="16002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4" descr="Oy_logo__vaaka_ENG"/>
          <p:cNvPicPr/>
          <p:nvPr/>
        </p:nvPicPr>
        <p:blipFill>
          <a:blip r:embed="rId3"/>
          <a:stretch/>
        </p:blipFill>
        <p:spPr>
          <a:xfrm>
            <a:off x="6006960" y="6080040"/>
            <a:ext cx="2895840" cy="51120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10"/>
          <p:cNvSpPr/>
          <p:nvPr/>
        </p:nvSpPr>
        <p:spPr>
          <a:xfrm>
            <a:off x="923760" y="6184800"/>
            <a:ext cx="4778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 u="sng">
                <a:solidFill>
                  <a:srgbClr val="1068a2"/>
                </a:solidFill>
                <a:uFillTx/>
                <a:latin typeface="Gill Sans"/>
                <a:hlinkClick r:id="rId4"/>
              </a:rPr>
              <a:t>LET.OULU.FI</a:t>
            </a:r>
            <a:r>
              <a:rPr b="0" lang="fi-FI" sz="1200" spc="-1" strike="noStrike">
                <a:solidFill>
                  <a:srgbClr val="777777"/>
                </a:solidFill>
                <a:latin typeface="Gill Sans"/>
              </a:rPr>
              <a:t>	</a:t>
            </a:r>
            <a:r>
              <a:rPr b="0" lang="fi-FI" sz="1200" spc="-1" strike="noStrike">
                <a:solidFill>
                  <a:srgbClr val="777777"/>
                </a:solidFill>
                <a:latin typeface="Gill Sans"/>
              </a:rPr>
              <a:t> MATTI MEIKÄLÄINEN    </a:t>
            </a:r>
            <a:fld id="{89D31D75-28F4-4D92-AC8D-D45EF77E6534}" type="datetime">
              <a:rPr b="0" lang="fi-FI" sz="1200" spc="-1" strike="noStrike">
                <a:solidFill>
                  <a:srgbClr val="777777"/>
                </a:solidFill>
                <a:latin typeface="Gill Sans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34" name="Picture 8" descr="let_logo.jpg"/>
          <p:cNvPicPr/>
          <p:nvPr/>
        </p:nvPicPr>
        <p:blipFill>
          <a:blip r:embed="rId5"/>
          <a:stretch/>
        </p:blipFill>
        <p:spPr>
          <a:xfrm>
            <a:off x="177840" y="6121440"/>
            <a:ext cx="711000" cy="59688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8"/>
          <p:cNvSpPr/>
          <p:nvPr/>
        </p:nvSpPr>
        <p:spPr>
          <a:xfrm>
            <a:off x="927000" y="6388200"/>
            <a:ext cx="28450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r" pos="1790640"/>
                <a:tab algn="r" pos="1886040"/>
                <a:tab algn="r" pos="2867040"/>
                <a:tab algn="r" pos="3409920"/>
                <a:tab algn="r" pos="4486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Gill Sans"/>
              </a:rPr>
              <a:t>Learning and Educational Technology Research Unit</a:t>
            </a:r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r" pos="1790640"/>
                <a:tab algn="r" pos="1886040"/>
                <a:tab algn="r" pos="2867040"/>
                <a:tab algn="r" pos="3409920"/>
                <a:tab algn="r" pos="4486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447920" y="2057040"/>
            <a:ext cx="6248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3"/>
          </p:nvPr>
        </p:nvSpPr>
        <p:spPr>
          <a:xfrm>
            <a:off x="4038120" y="1519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2B96A-1606-43BA-9525-FAD9028A00F9}" type="slidenum">
              <a:rPr b="0" lang="fi-FI" sz="10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13" descr="Kulmakuvio"/>
          <p:cNvPicPr/>
          <p:nvPr/>
        </p:nvPicPr>
        <p:blipFill>
          <a:blip r:embed="rId2"/>
          <a:stretch/>
        </p:blipFill>
        <p:spPr>
          <a:xfrm>
            <a:off x="0" y="0"/>
            <a:ext cx="912960" cy="16002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4" descr="Oy_logo__vaaka_ENG"/>
          <p:cNvPicPr/>
          <p:nvPr/>
        </p:nvPicPr>
        <p:blipFill>
          <a:blip r:embed="rId3"/>
          <a:stretch/>
        </p:blipFill>
        <p:spPr>
          <a:xfrm>
            <a:off x="6006960" y="6080040"/>
            <a:ext cx="2895840" cy="51120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10"/>
          <p:cNvSpPr/>
          <p:nvPr/>
        </p:nvSpPr>
        <p:spPr>
          <a:xfrm>
            <a:off x="923760" y="6184800"/>
            <a:ext cx="4778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 u="sng">
                <a:solidFill>
                  <a:srgbClr val="1068a2"/>
                </a:solidFill>
                <a:uFillTx/>
                <a:latin typeface="Gill Sans"/>
                <a:hlinkClick r:id="rId4"/>
              </a:rPr>
              <a:t>LET.OULU.FI</a:t>
            </a:r>
            <a:r>
              <a:rPr b="0" lang="fi-FI" sz="1200" spc="-1" strike="noStrike">
                <a:solidFill>
                  <a:srgbClr val="777777"/>
                </a:solidFill>
                <a:latin typeface="Gill Sans"/>
              </a:rPr>
              <a:t>	</a:t>
            </a:r>
            <a:r>
              <a:rPr b="0" lang="fi-FI" sz="1200" spc="-1" strike="noStrike">
                <a:solidFill>
                  <a:srgbClr val="777777"/>
                </a:solidFill>
                <a:latin typeface="Gill Sans"/>
              </a:rPr>
              <a:t> MATTI MEIKÄLÄINEN    </a:t>
            </a:r>
            <a:fld id="{383A658E-5052-443A-8E90-C38898803280}" type="datetime">
              <a:rPr b="0" lang="fi-FI" sz="1200" spc="-1" strike="noStrike">
                <a:solidFill>
                  <a:srgbClr val="777777"/>
                </a:solidFill>
                <a:latin typeface="Gill Sans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78" name="Picture 8" descr="let_logo.jpg"/>
          <p:cNvPicPr/>
          <p:nvPr/>
        </p:nvPicPr>
        <p:blipFill>
          <a:blip r:embed="rId5"/>
          <a:stretch/>
        </p:blipFill>
        <p:spPr>
          <a:xfrm>
            <a:off x="177840" y="6121440"/>
            <a:ext cx="711000" cy="59688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8"/>
          <p:cNvSpPr/>
          <p:nvPr/>
        </p:nvSpPr>
        <p:spPr>
          <a:xfrm>
            <a:off x="927000" y="6388200"/>
            <a:ext cx="28450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r" pos="1790640"/>
                <a:tab algn="r" pos="1886040"/>
                <a:tab algn="r" pos="2867040"/>
                <a:tab algn="r" pos="3409920"/>
                <a:tab algn="r" pos="4486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Gill Sans"/>
              </a:rPr>
              <a:t>Learning and Educational Technology Research Unit</a:t>
            </a:r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r" pos="1790640"/>
                <a:tab algn="r" pos="1886040"/>
                <a:tab algn="r" pos="2867040"/>
                <a:tab algn="r" pos="3409920"/>
                <a:tab algn="r" pos="4486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1447920" y="2057040"/>
            <a:ext cx="6248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4"/>
          </p:nvPr>
        </p:nvSpPr>
        <p:spPr>
          <a:xfrm>
            <a:off x="4038120" y="1519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8CAE0-FDCD-42B8-AD32-7C8977534EC5}" type="slidenum">
              <a:rPr b="0" lang="fi-FI" sz="10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13" descr="Kulmakuvio"/>
          <p:cNvPicPr/>
          <p:nvPr/>
        </p:nvPicPr>
        <p:blipFill>
          <a:blip r:embed="rId2"/>
          <a:stretch/>
        </p:blipFill>
        <p:spPr>
          <a:xfrm>
            <a:off x="0" y="0"/>
            <a:ext cx="912960" cy="16002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4" descr="Oy_logo__vaaka_ENG"/>
          <p:cNvPicPr/>
          <p:nvPr/>
        </p:nvPicPr>
        <p:blipFill>
          <a:blip r:embed="rId3"/>
          <a:stretch/>
        </p:blipFill>
        <p:spPr>
          <a:xfrm>
            <a:off x="6006960" y="6080040"/>
            <a:ext cx="2895840" cy="51120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10"/>
          <p:cNvSpPr/>
          <p:nvPr/>
        </p:nvSpPr>
        <p:spPr>
          <a:xfrm>
            <a:off x="923760" y="6184800"/>
            <a:ext cx="4778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 u="sng">
                <a:solidFill>
                  <a:srgbClr val="1068a2"/>
                </a:solidFill>
                <a:uFillTx/>
                <a:latin typeface="Gill Sans"/>
                <a:hlinkClick r:id="rId4"/>
              </a:rPr>
              <a:t>LET.OULU.FI</a:t>
            </a:r>
            <a:r>
              <a:rPr b="0" lang="fi-FI" sz="1200" spc="-1" strike="noStrike">
                <a:solidFill>
                  <a:srgbClr val="777777"/>
                </a:solidFill>
                <a:latin typeface="Gill Sans"/>
              </a:rPr>
              <a:t>	</a:t>
            </a:r>
            <a:r>
              <a:rPr b="0" lang="fi-FI" sz="1200" spc="-1" strike="noStrike">
                <a:solidFill>
                  <a:srgbClr val="777777"/>
                </a:solidFill>
                <a:latin typeface="Gill Sans"/>
              </a:rPr>
              <a:t> MATTI MEIKÄLÄINEN    </a:t>
            </a:r>
            <a:fld id="{E9CE76D0-3D8F-48AD-8F4C-383AEA99075B}" type="datetime">
              <a:rPr b="0" lang="fi-FI" sz="1200" spc="-1" strike="noStrike">
                <a:solidFill>
                  <a:srgbClr val="777777"/>
                </a:solidFill>
                <a:latin typeface="Gill Sans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22" name="Picture 8" descr="let_logo.jpg"/>
          <p:cNvPicPr/>
          <p:nvPr/>
        </p:nvPicPr>
        <p:blipFill>
          <a:blip r:embed="rId5"/>
          <a:stretch/>
        </p:blipFill>
        <p:spPr>
          <a:xfrm>
            <a:off x="177840" y="6121440"/>
            <a:ext cx="711000" cy="59688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8"/>
          <p:cNvSpPr/>
          <p:nvPr/>
        </p:nvSpPr>
        <p:spPr>
          <a:xfrm>
            <a:off x="927000" y="6388200"/>
            <a:ext cx="28450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r" pos="1790640"/>
                <a:tab algn="r" pos="1886040"/>
                <a:tab algn="r" pos="2867040"/>
                <a:tab algn="r" pos="3409920"/>
                <a:tab algn="r" pos="4486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Gill Sans"/>
              </a:rPr>
              <a:t>Learning and Educational Technology Research Unit</a:t>
            </a:r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r" pos="1790640"/>
                <a:tab algn="r" pos="1886040"/>
                <a:tab algn="r" pos="2867040"/>
                <a:tab algn="r" pos="3409920"/>
                <a:tab algn="r" pos="4486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1447920" y="2057040"/>
            <a:ext cx="6248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5"/>
          </p:nvPr>
        </p:nvSpPr>
        <p:spPr>
          <a:xfrm>
            <a:off x="4038120" y="1519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739C7-33C1-4690-AB4E-3F229EB6A379}" type="slidenum">
              <a:rPr b="0" lang="fi-FI" sz="10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13" descr="Kulmakuvio"/>
          <p:cNvPicPr/>
          <p:nvPr/>
        </p:nvPicPr>
        <p:blipFill>
          <a:blip r:embed="rId2"/>
          <a:stretch/>
        </p:blipFill>
        <p:spPr>
          <a:xfrm>
            <a:off x="0" y="0"/>
            <a:ext cx="912960" cy="16002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4" descr="Oy_logo__vaaka_ENG"/>
          <p:cNvPicPr/>
          <p:nvPr/>
        </p:nvPicPr>
        <p:blipFill>
          <a:blip r:embed="rId3"/>
          <a:stretch/>
        </p:blipFill>
        <p:spPr>
          <a:xfrm>
            <a:off x="6006960" y="6080040"/>
            <a:ext cx="2895840" cy="51120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10"/>
          <p:cNvSpPr/>
          <p:nvPr/>
        </p:nvSpPr>
        <p:spPr>
          <a:xfrm>
            <a:off x="923760" y="6184800"/>
            <a:ext cx="4778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 u="sng">
                <a:solidFill>
                  <a:srgbClr val="1068a2"/>
                </a:solidFill>
                <a:uFillTx/>
                <a:latin typeface="Gill Sans"/>
                <a:hlinkClick r:id="rId4"/>
              </a:rPr>
              <a:t>LET.OULU.FI</a:t>
            </a:r>
            <a:r>
              <a:rPr b="0" lang="fi-FI" sz="1200" spc="-1" strike="noStrike">
                <a:solidFill>
                  <a:srgbClr val="777777"/>
                </a:solidFill>
                <a:latin typeface="Gill Sans"/>
              </a:rPr>
              <a:t>	</a:t>
            </a:r>
            <a:r>
              <a:rPr b="0" lang="fi-FI" sz="1200" spc="-1" strike="noStrike">
                <a:solidFill>
                  <a:srgbClr val="777777"/>
                </a:solidFill>
                <a:latin typeface="Gill Sans"/>
              </a:rPr>
              <a:t> MATTI MEIKÄLÄINEN    </a:t>
            </a:r>
            <a:fld id="{1F9853B9-63A9-402C-852D-52C33A985873}" type="datetime">
              <a:rPr b="0" lang="fi-FI" sz="1200" spc="-1" strike="noStrike">
                <a:solidFill>
                  <a:srgbClr val="777777"/>
                </a:solidFill>
                <a:latin typeface="Gill Sans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66" name="Picture 8" descr="let_logo.jpg"/>
          <p:cNvPicPr/>
          <p:nvPr/>
        </p:nvPicPr>
        <p:blipFill>
          <a:blip r:embed="rId5"/>
          <a:stretch/>
        </p:blipFill>
        <p:spPr>
          <a:xfrm>
            <a:off x="177840" y="6121440"/>
            <a:ext cx="711000" cy="59688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8"/>
          <p:cNvSpPr/>
          <p:nvPr/>
        </p:nvSpPr>
        <p:spPr>
          <a:xfrm>
            <a:off x="927000" y="6388200"/>
            <a:ext cx="28450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r" pos="1790640"/>
                <a:tab algn="r" pos="1886040"/>
                <a:tab algn="r" pos="2867040"/>
                <a:tab algn="r" pos="3409920"/>
                <a:tab algn="r" pos="4486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Gill Sans"/>
              </a:rPr>
              <a:t>Learning and Educational Technology Research Unit</a:t>
            </a:r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r" pos="1790640"/>
                <a:tab algn="r" pos="1886040"/>
                <a:tab algn="r" pos="2867040"/>
                <a:tab algn="r" pos="3409920"/>
                <a:tab algn="r" pos="4486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1447920" y="2057040"/>
            <a:ext cx="6248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6"/>
          </p:nvPr>
        </p:nvSpPr>
        <p:spPr>
          <a:xfrm>
            <a:off x="4038120" y="1519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3EC85-0D8E-40A5-AE2F-12B22C365502}" type="slidenum">
              <a:rPr b="0" lang="fi-FI" sz="10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13" descr="Kulmakuvio"/>
          <p:cNvPicPr/>
          <p:nvPr/>
        </p:nvPicPr>
        <p:blipFill>
          <a:blip r:embed="rId2"/>
          <a:stretch/>
        </p:blipFill>
        <p:spPr>
          <a:xfrm>
            <a:off x="0" y="0"/>
            <a:ext cx="912960" cy="16002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14" descr="Oy_logo__vaaka_ENG"/>
          <p:cNvPicPr/>
          <p:nvPr/>
        </p:nvPicPr>
        <p:blipFill>
          <a:blip r:embed="rId3"/>
          <a:stretch/>
        </p:blipFill>
        <p:spPr>
          <a:xfrm>
            <a:off x="6006960" y="6080040"/>
            <a:ext cx="2895840" cy="51120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10"/>
          <p:cNvSpPr/>
          <p:nvPr/>
        </p:nvSpPr>
        <p:spPr>
          <a:xfrm>
            <a:off x="923760" y="6184800"/>
            <a:ext cx="4778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 u="sng">
                <a:solidFill>
                  <a:srgbClr val="1068a2"/>
                </a:solidFill>
                <a:uFillTx/>
                <a:latin typeface="Gill Sans"/>
                <a:hlinkClick r:id="rId4"/>
              </a:rPr>
              <a:t>LET.OULU.FI</a:t>
            </a:r>
            <a:r>
              <a:rPr b="0" lang="fi-FI" sz="1200" spc="-1" strike="noStrike">
                <a:solidFill>
                  <a:srgbClr val="777777"/>
                </a:solidFill>
                <a:latin typeface="Gill Sans"/>
              </a:rPr>
              <a:t>	</a:t>
            </a:r>
            <a:r>
              <a:rPr b="0" lang="fi-FI" sz="1200" spc="-1" strike="noStrike">
                <a:solidFill>
                  <a:srgbClr val="777777"/>
                </a:solidFill>
                <a:latin typeface="Gill Sans"/>
              </a:rPr>
              <a:t> MATTI MEIKÄLÄINEN    </a:t>
            </a:r>
            <a:fld id="{2FAA7A56-3A67-40D3-B8D0-A3C575CC3783}" type="datetime">
              <a:rPr b="0" lang="fi-FI" sz="1200" spc="-1" strike="noStrike">
                <a:solidFill>
                  <a:srgbClr val="777777"/>
                </a:solidFill>
                <a:latin typeface="Gill Sans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10" name="Picture 8" descr="let_logo.jpg"/>
          <p:cNvPicPr/>
          <p:nvPr/>
        </p:nvPicPr>
        <p:blipFill>
          <a:blip r:embed="rId5"/>
          <a:stretch/>
        </p:blipFill>
        <p:spPr>
          <a:xfrm>
            <a:off x="177840" y="6121440"/>
            <a:ext cx="711000" cy="59688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8"/>
          <p:cNvSpPr/>
          <p:nvPr/>
        </p:nvSpPr>
        <p:spPr>
          <a:xfrm>
            <a:off x="927000" y="6388200"/>
            <a:ext cx="28450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r" pos="1790640"/>
                <a:tab algn="r" pos="1886040"/>
                <a:tab algn="r" pos="2867040"/>
                <a:tab algn="r" pos="3409920"/>
                <a:tab algn="r" pos="4486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Gill Sans"/>
              </a:rPr>
              <a:t>Learning and Educational Technology Research Unit</a:t>
            </a:r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r" pos="1790640"/>
                <a:tab algn="r" pos="1886040"/>
                <a:tab algn="r" pos="2867040"/>
                <a:tab algn="r" pos="3409920"/>
                <a:tab algn="r" pos="4486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1447920" y="2057040"/>
            <a:ext cx="6248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7"/>
          </p:nvPr>
        </p:nvSpPr>
        <p:spPr>
          <a:xfrm>
            <a:off x="4038120" y="1519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13284-79EA-448F-A743-416CD0B2FFA7}" type="slidenum">
              <a:rPr b="0" lang="fi-FI" sz="10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13" descr="Kulmakuvio"/>
          <p:cNvPicPr/>
          <p:nvPr/>
        </p:nvPicPr>
        <p:blipFill>
          <a:blip r:embed="rId2"/>
          <a:stretch/>
        </p:blipFill>
        <p:spPr>
          <a:xfrm>
            <a:off x="0" y="0"/>
            <a:ext cx="912960" cy="16002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4" descr="Oy_logo__vaaka_ENG"/>
          <p:cNvPicPr/>
          <p:nvPr/>
        </p:nvPicPr>
        <p:blipFill>
          <a:blip r:embed="rId3"/>
          <a:stretch/>
        </p:blipFill>
        <p:spPr>
          <a:xfrm>
            <a:off x="6006960" y="6080040"/>
            <a:ext cx="2895840" cy="511200"/>
          </a:xfrm>
          <a:prstGeom prst="rect">
            <a:avLst/>
          </a:prstGeom>
          <a:ln w="0">
            <a:noFill/>
          </a:ln>
        </p:spPr>
      </p:pic>
      <p:sp>
        <p:nvSpPr>
          <p:cNvPr id="353" name="Rectangle 10"/>
          <p:cNvSpPr/>
          <p:nvPr/>
        </p:nvSpPr>
        <p:spPr>
          <a:xfrm>
            <a:off x="923760" y="6184800"/>
            <a:ext cx="4778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777777"/>
                </a:solidFill>
                <a:latin typeface="Gill Sans"/>
              </a:rPr>
              <a:t>LET.OULU.FI</a:t>
            </a:r>
            <a:r>
              <a:rPr b="0" lang="fi-FI" sz="1200" spc="-1" strike="noStrike">
                <a:solidFill>
                  <a:srgbClr val="777777"/>
                </a:solidFill>
                <a:latin typeface="Gill Sans"/>
              </a:rPr>
              <a:t>	</a:t>
            </a:r>
            <a:r>
              <a:rPr b="0" lang="fi-FI" sz="1200" spc="-1" strike="noStrike">
                <a:solidFill>
                  <a:srgbClr val="777777"/>
                </a:solidFill>
                <a:latin typeface="Gill Sans"/>
              </a:rPr>
              <a:t> MATTI MEIKÄLÄINEN    </a:t>
            </a:r>
            <a:fld id="{EB988DD1-F5A1-4C88-AEA9-BB63E5033362}" type="datetime">
              <a:rPr b="0" lang="fi-FI" sz="1200" spc="-1" strike="noStrike">
                <a:solidFill>
                  <a:srgbClr val="777777"/>
                </a:solidFill>
                <a:latin typeface="Gill Sans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54" name="Picture 8" descr="let_logo.jpg"/>
          <p:cNvPicPr/>
          <p:nvPr/>
        </p:nvPicPr>
        <p:blipFill>
          <a:blip r:embed="rId4"/>
          <a:stretch/>
        </p:blipFill>
        <p:spPr>
          <a:xfrm>
            <a:off x="177840" y="6121440"/>
            <a:ext cx="711000" cy="596880"/>
          </a:xfrm>
          <a:prstGeom prst="rect">
            <a:avLst/>
          </a:prstGeom>
          <a:ln w="0">
            <a:noFill/>
          </a:ln>
        </p:spPr>
      </p:pic>
      <p:sp>
        <p:nvSpPr>
          <p:cNvPr id="355" name="Rectangle 8"/>
          <p:cNvSpPr/>
          <p:nvPr/>
        </p:nvSpPr>
        <p:spPr>
          <a:xfrm>
            <a:off x="927000" y="6388200"/>
            <a:ext cx="28450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r" pos="1790640"/>
                <a:tab algn="r" pos="1886040"/>
                <a:tab algn="r" pos="2867040"/>
                <a:tab algn="r" pos="3409920"/>
                <a:tab algn="r" pos="4486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Gill Sans"/>
              </a:rPr>
              <a:t>Learning and Educational Technology Research Unit</a:t>
            </a:r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r" pos="1790640"/>
                <a:tab algn="r" pos="1886040"/>
                <a:tab algn="r" pos="2867040"/>
                <a:tab algn="r" pos="3409920"/>
                <a:tab algn="r" pos="4486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1447920" y="2057040"/>
            <a:ext cx="6248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8"/>
          </p:nvPr>
        </p:nvSpPr>
        <p:spPr>
          <a:xfrm>
            <a:off x="4038120" y="1519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379F5-FB51-4FD7-BA7A-1003425655F8}" type="slidenum">
              <a:rPr b="0" lang="fi-FI" sz="10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 Narrow"/>
              </a:rPr>
              <a:t>LeCoTec</a:t>
            </a:r>
            <a:r>
              <a:rPr b="0" lang="fi-FI" sz="40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Gill Sans"/>
              </a:rPr>
              <a:t>Pirkko Hyvönen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92" name="Picture 3" descr="let_logo.jpg"/>
          <p:cNvPicPr/>
          <p:nvPr/>
        </p:nvPicPr>
        <p:blipFill>
          <a:blip r:embed="rId1"/>
          <a:stretch/>
        </p:blipFill>
        <p:spPr>
          <a:xfrm>
            <a:off x="177840" y="6121440"/>
            <a:ext cx="711000" cy="596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 Narrow"/>
              </a:rPr>
              <a:t>Blogitilast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6580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log Stats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ummary Tabl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otal views: 5745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usiest day: 327 — Wednesday, March 10, 2010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Views today 267 (Sunday, 6 pm.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533600" y="209160"/>
            <a:ext cx="6248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Gill Sans"/>
              </a:rPr>
              <a:t>Tilann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467000" y="1418760"/>
            <a:ext cx="6580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Kollaboratiivinen jakso alkaa 30.3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Sitä enne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Teeman ykkös- ja kakkostoive (lista kiertämään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Kolmen teeman kirjoitukset valmiiks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Opiskelumateriaalit, kun ryhmät tiedoss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Academic writing manua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Muistattehan täyttää kyselyn </a:t>
            </a:r>
            <a:r>
              <a:rPr b="0" lang="fi-FI" sz="2000" spc="-1" strike="noStrike">
                <a:solidFill>
                  <a:srgbClr val="000000"/>
                </a:solidFill>
                <a:latin typeface="Arial Narrow"/>
              </a:rPr>
              <a:t>8.4., 22.4. ja 6.5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 Narrow"/>
              </a:rPr>
              <a:t>Välipalautetta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437840" y="1752120"/>
            <a:ext cx="6580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Laatu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Teorian ymmärrys näky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Tarkasteltu eri näkökulmist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Teorian käytäntöön soveltaminen tai omaan työhön reflektointi jokseenkin vähäistä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On tehty arvokkaita havaintoja ja on herännyt tärkeitä kysymyksiä!!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Kommentointi/keskustelu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Tästä on hyvä jatkaa seuraavaan vaiheeseen!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Content Placeholder 3" descr=""/>
          <p:cNvPicPr/>
          <p:nvPr/>
        </p:nvPicPr>
        <p:blipFill>
          <a:blip r:embed="rId1"/>
          <a:stretch/>
        </p:blipFill>
        <p:spPr>
          <a:xfrm>
            <a:off x="1090440" y="182520"/>
            <a:ext cx="7078680" cy="5767560"/>
          </a:xfrm>
          <a:prstGeom prst="rect">
            <a:avLst/>
          </a:prstGeom>
          <a:ln w="0">
            <a:noFill/>
          </a:ln>
        </p:spPr>
      </p:pic>
      <p:sp>
        <p:nvSpPr>
          <p:cNvPr id="500" name="TextBox 4"/>
          <p:cNvSpPr/>
          <p:nvPr/>
        </p:nvSpPr>
        <p:spPr>
          <a:xfrm>
            <a:off x="170640" y="4172040"/>
            <a:ext cx="13525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Gill Sans"/>
              </a:rPr>
              <a:t>Joustavuu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Box 6"/>
          <p:cNvSpPr/>
          <p:nvPr/>
        </p:nvSpPr>
        <p:spPr>
          <a:xfrm>
            <a:off x="1162080" y="866880"/>
            <a:ext cx="7353360" cy="28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TEORIAN SOVELTAMINEN KÄYTÄNTÖÖ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- ideat, oivallukset, toteamukset, uudet kysymykse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 Narrow"/>
              </a:rPr>
              <a:t>Mitä olet havainnut itsestäsi opettajana/HR-toimijana ja oppijana?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 Narrow"/>
              </a:rPr>
              <a:t>Mitä olet havainnut teorian soveltamisesta erilaisiin oppimisen konteksteihin?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08:30:11Z</dcterms:created>
  <dc:creator>Pasi Terästi</dc:creator>
  <dc:description/>
  <dc:language>en-US</dc:language>
  <cp:lastModifiedBy>noikar</cp:lastModifiedBy>
  <cp:lastPrinted>2010-03-17T08:41:39Z</cp:lastPrinted>
  <dcterms:modified xsi:type="dcterms:W3CDTF">2010-03-25T12:31:52Z</dcterms:modified>
  <cp:revision>523</cp:revision>
  <dc:subject/>
  <dc:title>PowerPoint-esitys</dc:title>
</cp:coreProperties>
</file>